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89DE-6368-4416-8DE2-1F886ECE20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69B6-E70D-41D4-B6E5-18F8BC8A54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716-7CFC-4F1C-96EB-AF7C9D44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1E6-F077-415E-9CA0-6B46CA41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6D5-7338-4705-B674-6EE172B3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6E8-8E63-4BD8-B60D-D58E5877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9B9A-5BCD-4321-9018-C4F5A467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6935-F02C-4036-8EC5-8F2FCDDA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33F1-DA8D-48C1-ABD3-DA76B4F2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EDB9-F69C-4385-A3D3-D41371F0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9A6F-CBD5-4001-9B54-4B972C03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7DA0-E776-4B00-B06F-BB08F56B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C417-8701-40D2-860E-A9D310A1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ABF-E1F6-416D-B521-6F8FFB6A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CACE-4F92-409C-8DC8-459C9706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A111-2AE8-4B8B-B883-99AB2F55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B491-BE34-4D39-BED5-F812BA3F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72FC-0B6C-4D2D-ADC3-C28972E0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DCF3-DBEC-4E32-B729-38887B5E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0A795-8D07-4AAD-B7DD-7C91824E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1A3E2-D696-4FAD-97CE-D43D9965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B6BA6-BAF5-4D5C-9C27-1E958D6E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3862A-2D8B-4198-8E61-275674A3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DBC8-C00E-46CA-865A-DB27B3AD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810-FCBF-4EF1-8769-64B1D864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346CC-4377-4863-B81C-E4A62C68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90D0F-C20E-4C61-B0F1-DCC08E84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0425-AB57-4415-9B5D-2F644873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E745-46A1-47D7-A906-176A0836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16BA-28BD-4CBD-A76E-0F03B527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AEC6E-7102-4FFF-8ED0-36757B8D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F8BE-E47D-4529-8501-D92A38CA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14B6F-807D-45E2-91A5-F3125394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9619D-2A3D-4DA6-A755-3C26B9FA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3B28F-5B68-418C-B77C-C760592F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FFE-5166-4B25-ADB7-F3EDABB6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074AB-A26B-477A-9038-E870896F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CB95D-5173-405A-94EB-D2AAA7FF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B1C5A-E98A-4EA6-AE3A-F212F5BB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AED2D-7155-4134-967E-F3C3205E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4DFE5-940F-4F84-9D86-8BC9953D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31753-AB5C-47AB-A9ED-E3AAE8F1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C9BEF-29A7-4A76-9350-4FFD4B95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40A4F-2E3A-4DC6-8F06-FB20380B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32F9D-E26C-42CA-8A13-3A467EBE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ECB19-6544-40EE-8299-29E52AC8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77A-88A0-407D-87C2-7DD893A5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F5A96-1788-43FA-A46B-95199A41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4375E-246E-4BB3-8ECD-D7D82172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DD9B0-D8EB-4961-8495-19188EB6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49C85-B8E4-4523-A094-9BD33FFF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1F932-21E9-44EA-886A-8750D1B7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CA4EB-9DB6-4ABC-8F5B-EE0AB917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168E7-A397-4C50-ABAA-31EA7903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A5788-E8FC-4D30-8978-1F93ED2C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76B5D-CD7D-47F6-B48C-096D6831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147A9-8E4E-4673-9DC4-66118CBB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0FA-BAB0-4464-9CA9-00F59493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034AE-0DF1-414B-BC46-66A97CAE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CFE-022E-4095-83A3-DE7862A2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218-8CA2-44BD-AF15-2A7810E8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B28-BA95-492A-A694-39D23A46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7070-5449-470C-8EE1-C1BA65110AC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86C2-94F2-40C8-B8DB-5162B5775BD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200A-CE6B-4B76-98AA-1673C7878D8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984C-4E88-4F3E-89CA-0D46AC4EB2B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A96D-1F3A-4E08-85D0-11863EA0A89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 1-2\Последовательность выполнения углов. «лесная поляна».jpg"/>
          <p:cNvPicPr/>
          <p:nvPr/>
        </p:nvPicPr>
        <p:blipFill>
          <a:blip r:embed="rId1"/>
          <a:stretch/>
        </p:blipFill>
        <p:spPr>
          <a:xfrm>
            <a:off x="2411280" y="973080"/>
            <a:ext cx="396108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15T09:55:31Z</dcterms:modified>
  <cp:revision>32</cp:revision>
  <dc:subject/>
  <dc:title>ТВОРЧЕСКАЯ ДЕЯТЕЛЬНОСТЬ: ЗНАКОМСТВО С ТЕХНИКОЙ ИЗОНИТЬ</dc:title>
</cp:coreProperties>
</file>